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9AE0-0D18-419F-9626-570537E8B93C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597C-046D-4262-BB8F-EAC62ED8D3A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4A7C-29F5-41D6-8590-3278B5003D4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160C-DD05-4096-BBB1-89637CEA29C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E09E-3966-4F2B-B0D9-B58B49823AE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hallenges in partnerships – espeacially bringing together partners for working sessions an institutional challenge or an operational challe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1DA0-E310-46A5-94E1-9A9853D0F35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82D4-09A0-4AB1-A1CC-A9B404B38A2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8D2C-7835-4528-A4DC-0E6230ACCA2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1F33-0DAC-4E8A-8096-D8345BB7292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not sure what you mean by Tapping into collective talents?  Slide 7 addresses this issue, but I could not really understand what it is trying to say, perhaps it’s a language 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EDA8-C6BD-427F-8764-FE7249BD002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state at the outset what SETSAN stands for – Technical Secretariat for food and nutrition secur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, you need to differentiate between box 1 and box 4 at the top; I know you will speak about it, but right now, to me both boxes mean the same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2D9D-9116-4456-9056-EEFE14C2BE1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mean by provincial structure? – you should say whether it’s a focal point (one person) or a Un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730A-E003-4A5B-867A-702A19AAD3C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interest is in how SETSAN has managed to operate through public-private partnerships, you should emphasise that this is how the working groups are com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E9A4-5619-4C68-8247-4ED7B9538C5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8AD2-47E8-4E57-8C3D-A6159A7CDBA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quite understand the meaning behind the title you gave to this slide. I changed it slightly, but it still does not make much sense to me, especially in regard to the points listed bel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037D-8C01-4CE7-9FBA-D56279BA1FA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D285-E85B-449B-98DA-C9AE2C6B93F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ABE1-74DA-4D41-BA17-8D7CC85DDC8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C06-8D6D-415F-B812-8BFD96C4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C47-FF0F-4C0B-BB14-B1FA5F22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DFD-4CE1-4EB7-B6B2-93072D7D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3A1-A291-429E-98C9-6FA14CED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9F23-FFC0-47BA-A52C-039EDDF5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1304-EEB0-4C09-9240-355DE146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4866-D910-44EB-A8E6-A33546E4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115D-4F22-4BC3-B37C-5AD5BFD6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FB4E-EACA-4A99-9CB7-1FCC0597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E19B-A36D-4183-B8DF-DC659F73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BFB3-23A2-4A5B-B95A-FFF2B008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36C-1ECC-4E7B-9A30-D20D4012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50FF-0B5B-4AC4-8F3A-D239956E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F2EF-B65C-4D29-9587-2EAD2995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92A3-B7BA-41D9-8A12-185EA036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0195-8ED1-4263-80EF-1815363A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7E42-96E6-4BEB-8D46-7F47FE8F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709-86C0-426A-9C73-AFB404D9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EAA-F59B-471D-8ECC-A2692502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9BC-F4AC-4296-A5AD-639F64FB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8646-3873-4246-AE69-B4073452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5C4-1165-4C35-8255-7A768E96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43E-EB67-4572-AC52-52EA2B83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B8D-0964-4AB6-AC21-64258B08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5223-F4DD-46B3-8CF1-F8A64BEFB48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5FB1-0A01-4B7E-AC38-A5EF42EB9A8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6633"/>
                </a:solidFill>
                <a:latin typeface="Gill Sans MT"/>
              </a:rPr>
              <a:t>Innovative Approach to Country Capacity and Institution Building  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6633"/>
                </a:solidFill>
                <a:latin typeface="Gill Sans MT"/>
              </a:rPr>
              <a:t>Food and Nutrient Information: Achievements and challenges 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0020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Gill Sans MT"/>
              </a:rPr>
              <a:t>Food Security Information Net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Gill Sans MT"/>
              </a:rPr>
              <a:t>Nairobi- Keny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8-9 Septem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Logo Setsan"/>
          <p:cNvPicPr/>
          <p:nvPr/>
        </p:nvPicPr>
        <p:blipFill>
          <a:blip r:embed="rId2"/>
          <a:stretch/>
        </p:blipFill>
        <p:spPr>
          <a:xfrm>
            <a:off x="0" y="0"/>
            <a:ext cx="1459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Achievements- Cont…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ill Sans MT"/>
              </a:rPr>
              <a:t>Strategic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ill Sans MT"/>
              </a:rPr>
              <a:t>FSN mainestread into sevreal poli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FYP -2009-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PEN III -2009-2015 (HIV and A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ENPSB -2010-2020 (Social Prot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PRSP 2010-2015     (Pove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PAMRDC 2010-2020 (Nutri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PEDSA 2011-2020  (Agricultur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DICEPE 2011-2020 (Education- in prog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Gill Sans MT"/>
              </a:rPr>
              <a:t>FSN now  beeing taught in 2 public Universities  (UEM and Uni-Lu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Gill Sans MT"/>
              </a:rPr>
              <a:t>Annual 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igency plan integrating the VA- FInS people 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scenarios  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ocial and Economic  Plan with key FSN 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8C57-827B-46A7-BE9E-889904B1DB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Lessons Learn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TSAN Coordin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olitical will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a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bility –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ational Directorate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the minimal level that allows to influence the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udget lin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National and  Provincial levels  is cru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powering of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ivil society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ivate 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ong coordination may help stakeholders to increas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ransparenc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o build consen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TSAN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 timely and credible reports, Flashes, Maps and ot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alysis and report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ols preparation: ToRs, questionnaire agreed by differen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u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Logo Setsan"/>
          <p:cNvPicPr/>
          <p:nvPr/>
        </p:nvPicPr>
        <p:blipFill>
          <a:blip r:embed="rId1"/>
          <a:stretch/>
        </p:blipFill>
        <p:spPr>
          <a:xfrm>
            <a:off x="0" y="5867280"/>
            <a:ext cx="846000" cy="990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6858000" y="6095880"/>
            <a:ext cx="717480" cy="76212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10"/>
          <p:cNvSpPr/>
          <p:nvPr/>
        </p:nvSpPr>
        <p:spPr>
          <a:xfrm>
            <a:off x="5867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1032-AA76-4C37-AAA2-E84A4E825578}" type="slidenum">
              <a:rPr b="1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Lessons Learned (Cont…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142640"/>
            <a:ext cx="838224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Country (national &amp; provincial levels) , RVAC  and SCFS-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keholders and dissemination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ports should be in  Portuguese and Engl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ebsite  and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manent advoc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semination MUST be on timely manner (Jun/Ago , Nov/Dec,  Fev/Ma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1C2E-BC09-401A-BDFA-93A21B94596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8153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Challen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2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engthening SETSAN –structure and with Staff with multidisciplinary skills and from different institutions (national and provinci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stitutional capacity at provincial level (computers,  and c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engthening of Partnerships  taking in consideration that institutions may have different agenda and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ringing partners together for working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eation of National Council for F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engthening of FS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ckle Urban vuln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have some balance between the Rural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hronic and acut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ulnerabili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vise FSN Baseline (2011-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roving Targeting of vulnerab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lement the dynamic FSN data base in nation and sub-national lev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Logo Setsan"/>
          <p:cNvPicPr/>
          <p:nvPr/>
        </p:nvPicPr>
        <p:blipFill>
          <a:blip r:embed="rId1"/>
          <a:stretch/>
        </p:blipFill>
        <p:spPr>
          <a:xfrm>
            <a:off x="0" y="5867280"/>
            <a:ext cx="846000" cy="99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7086600" y="6095880"/>
            <a:ext cx="7174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9"/>
          <p:cNvSpPr/>
          <p:nvPr/>
        </p:nvSpPr>
        <p:spPr>
          <a:xfrm>
            <a:off x="617220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4E26-8E90-4E56-A3A4-66FEAA701128}" type="slidenum">
              <a:rPr b="1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Challenges- Cont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56280" indent="-31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tinue to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ollection, including P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ynamic data base  and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NS clas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umption M&amp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s and analytical FSN tools  -including  GIS and map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ort wri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motion of best practices on FSN at communit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wareness Stunting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tive campaigns to promote best FSN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375A-2DF7-4128-B4D6-B2748D95C65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6633"/>
                </a:solidFill>
                <a:latin typeface="Gill Sans MT"/>
              </a:rPr>
              <a:t>Conclu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SETSAN structure can be replicated at national, subnation and regional levels (ex. SETSAN for CPLP- Community of Portuguese- Speaking Count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SETSAN can act as techinal service provider for Natinal Council for FSN as way to bring political w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Ownership and political will are cru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Multisectoral and Multidisciplinary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7342-F890-4FEC-87D6-9E76477157C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pt-PT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pt-PT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pt-PT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pt-PT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2" name="Picture 3" descr="Logo Setsan"/>
          <p:cNvPicPr/>
          <p:nvPr/>
        </p:nvPicPr>
        <p:blipFill>
          <a:blip r:embed="rId1"/>
          <a:stretch/>
        </p:blipFill>
        <p:spPr>
          <a:xfrm>
            <a:off x="0" y="5105520"/>
            <a:ext cx="846000" cy="99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8426520" y="5410080"/>
            <a:ext cx="717480" cy="7621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457200" y="320040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Obrigada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Merci Beauc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	</a:t>
            </a:r>
            <a:r>
              <a:rPr b="1" lang="pt-PT" sz="4000" spc="-1" strike="noStrike">
                <a:solidFill>
                  <a:srgbClr val="006633"/>
                </a:solidFill>
                <a:latin typeface="Gill Sans MT"/>
              </a:rPr>
              <a:t>Kanimam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903240" y="6171480"/>
            <a:ext cx="22608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Gill Sans MT"/>
              </a:rPr>
              <a:t>www.setsan.org.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13"/>
          <p:cNvSpPr/>
          <p:nvPr/>
        </p:nvSpPr>
        <p:spPr>
          <a:xfrm>
            <a:off x="6705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9D44-7A14-455E-9193-F97A099A484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1143000" y="304920"/>
            <a:ext cx="6934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6633"/>
                </a:solidFill>
                <a:latin typeface="Gill Sans MT"/>
              </a:rPr>
              <a:t>Contents of the presentatio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What is SETS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rgan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How to tap into collective talent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How information can be feed into policy decis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chiev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Lessons Learn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Challe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ogo Setsan"/>
          <p:cNvPicPr/>
          <p:nvPr/>
        </p:nvPicPr>
        <p:blipFill>
          <a:blip r:embed="rId1"/>
          <a:stretch/>
        </p:blipFill>
        <p:spPr>
          <a:xfrm>
            <a:off x="457200" y="5867280"/>
            <a:ext cx="84600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086600" y="6019920"/>
            <a:ext cx="789120" cy="838080"/>
          </a:xfrm>
          <a:prstGeom prst="rect">
            <a:avLst/>
          </a:prstGeom>
          <a:ln w="0">
            <a:noFill/>
          </a:ln>
        </p:spPr>
      </p:pic>
      <p:sp>
        <p:nvSpPr>
          <p:cNvPr id="101" name="Footer Placeholder 9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10"/>
          <p:cNvSpPr/>
          <p:nvPr/>
        </p:nvSpPr>
        <p:spPr>
          <a:xfrm>
            <a:off x="59436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9F49-DFDF-445C-BAC5-5170519C4B85}" type="slidenum">
              <a:rPr b="0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What is SETSAN?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Picture 3" descr="Logo Setsan"/>
          <p:cNvPicPr/>
          <p:nvPr/>
        </p:nvPicPr>
        <p:blipFill>
          <a:blip r:embed="rId1"/>
          <a:stretch/>
        </p:blipFill>
        <p:spPr>
          <a:xfrm>
            <a:off x="144360" y="5638680"/>
            <a:ext cx="846360" cy="99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8077320" y="5791320"/>
            <a:ext cx="788760" cy="83808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10"/>
          <p:cNvSpPr/>
          <p:nvPr/>
        </p:nvSpPr>
        <p:spPr>
          <a:xfrm>
            <a:off x="59436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456D-5EAC-4E80-8E9C-38A75F442D38}" type="slidenum">
              <a:rPr b="1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2971800" y="3124080"/>
            <a:ext cx="3505320" cy="1524240"/>
          </a:xfrm>
          <a:prstGeom prst="ellipse">
            <a:avLst/>
          </a:prstGeom>
          <a:gradFill rotWithShape="0">
            <a:gsLst>
              <a:gs pos="0">
                <a:srgbClr val="b3dcaf"/>
              </a:gs>
              <a:gs pos="100000">
                <a:srgbClr val="ebf6ea"/>
              </a:gs>
            </a:gsLst>
            <a:lin ang="16200000"/>
          </a:gradFill>
          <a:ln w="9360">
            <a:solidFill>
              <a:srgbClr val="3880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ETSAN off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1 central Off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11 provincial off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80880" y="4724280"/>
            <a:ext cx="853452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ndate-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ecree 24/2010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Council of Minister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</a:rPr>
              <a:t>ensuring  coordination of multi-sectoral actions and promotion of FS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457200" y="1371600"/>
            <a:ext cx="2133720" cy="1600200"/>
          </a:xfrm>
          <a:prstGeom prst="ellipse">
            <a:avLst/>
          </a:prstGeom>
          <a:gradFill rotWithShape="0">
            <a:gsLst>
              <a:gs pos="0">
                <a:srgbClr val="ffda90"/>
              </a:gs>
              <a:gs pos="100000">
                <a:srgbClr val="fff4e0"/>
              </a:gs>
            </a:gsLst>
            <a:lin ang="16200000"/>
          </a:gradFill>
          <a:ln w="9360">
            <a:solidFill>
              <a:srgbClr val="cc98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SN i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Multi-sec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secto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3505320" y="1295280"/>
            <a:ext cx="2133360" cy="1600200"/>
          </a:xfrm>
          <a:prstGeom prst="ellipse">
            <a:avLst/>
          </a:prstGeom>
          <a:gradFill rotWithShape="0">
            <a:gsLst>
              <a:gs pos="0">
                <a:srgbClr val="ffda90"/>
              </a:gs>
              <a:gs pos="100000">
                <a:srgbClr val="fff4e0"/>
              </a:gs>
            </a:gsLst>
            <a:lin ang="16200000"/>
          </a:gradFill>
          <a:ln w="9360">
            <a:solidFill>
              <a:srgbClr val="cc98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Information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6477120" y="1219320"/>
            <a:ext cx="2265120" cy="1600200"/>
          </a:xfrm>
          <a:prstGeom prst="ellipse">
            <a:avLst/>
          </a:prstGeom>
          <a:gradFill rotWithShape="0">
            <a:gsLst>
              <a:gs pos="0">
                <a:srgbClr val="ffda90"/>
              </a:gs>
              <a:gs pos="100000">
                <a:srgbClr val="fff4e0"/>
              </a:gs>
            </a:gsLst>
            <a:lin ang="16200000"/>
          </a:gradFill>
          <a:ln w="9360">
            <a:solidFill>
              <a:srgbClr val="cc98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SN in pro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or NG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SETSAN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Structure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07E3-CE52-41A3-8238-467E8264051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838188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609588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6"/>
          <p:cNvSpPr/>
          <p:nvPr/>
        </p:nvSpPr>
        <p:spPr>
          <a:xfrm flipV="1">
            <a:off x="5105520" y="1828800"/>
            <a:ext cx="144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7467480" y="2590920"/>
            <a:ext cx="1524240" cy="12952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Techinical Ste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(Head of Dpts Gov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NGOs, UN, Dono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7543800" y="16002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onsultive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(Nat Director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NGOs, UN , Donors)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733920" y="1447920"/>
            <a:ext cx="2666880" cy="533160"/>
          </a:xfrm>
          <a:prstGeom prst="flowChartAlternate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SETSAN Pres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MINAG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3733920" y="2819520"/>
            <a:ext cx="2666880" cy="533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Executive Secretar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(SETS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 flipV="1">
            <a:off x="2285640" y="4267080"/>
            <a:ext cx="609588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5105520" y="41911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H="1" flipV="1">
            <a:off x="6400440" y="16765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640044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3429000" y="4495680"/>
            <a:ext cx="1523880" cy="609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Policy and   Planning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5257800" y="4495680"/>
            <a:ext cx="175248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Technical  Servic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Training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Advocay and communic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411480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4038480" y="5791320"/>
            <a:ext cx="228600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PROVINCIAL STRU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DO SET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 flipH="1">
            <a:off x="5562360" y="5181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4114800" y="51055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1676520" y="4495680"/>
            <a:ext cx="1523880" cy="609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Coordination of FSN Information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7543800" y="4495680"/>
            <a:ext cx="1219320" cy="609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Arial"/>
              </a:rPr>
              <a:t>Administr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ive and Finance  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>
            <a:off x="228600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>
            <a:off x="2286000" y="5105520"/>
            <a:ext cx="175248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 flipH="1">
            <a:off x="6324120" y="51055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26"/>
          <p:cNvSpPr/>
          <p:nvPr/>
        </p:nvSpPr>
        <p:spPr>
          <a:xfrm flipV="1">
            <a:off x="5103000" y="3354120"/>
            <a:ext cx="324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6"/>
          <p:cNvGraphicFramePr/>
          <p:nvPr/>
        </p:nvGraphicFramePr>
        <p:xfrm>
          <a:off x="609480" y="2057400"/>
          <a:ext cx="16560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1656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Oval 27"/>
          <p:cNvSpPr/>
          <p:nvPr/>
        </p:nvSpPr>
        <p:spPr>
          <a:xfrm>
            <a:off x="6324480" y="304920"/>
            <a:ext cx="2362320" cy="1143000"/>
          </a:xfrm>
          <a:prstGeom prst="ellipse">
            <a:avLst/>
          </a:prstGeom>
          <a:solidFill>
            <a:srgbClr val="0aff85"/>
          </a:solidFill>
          <a:ln w="25560">
            <a:solidFill>
              <a:srgbClr val="0af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abinet of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5866920" y="9144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6633"/>
                </a:solidFill>
                <a:latin typeface="Gill Sans MT"/>
              </a:rPr>
              <a:t>How SETSAN operat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ETSAN main Units - Information and Poli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ETSAN working Group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VAC ( Inform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Planning and  Decentralization (Polic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Training on FSN and RtF concepts and tools (bo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Right to Food (Polic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SETSAN focal point at  Provincial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E962-3C8D-4B86-81C9-5FC6F9533AB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200" spc="-1" strike="noStrike">
                <a:solidFill>
                  <a:srgbClr val="006633"/>
                </a:solidFill>
                <a:latin typeface="Gill Sans MT"/>
              </a:rPr>
              <a:t>To operate effectively WG should have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ommon vi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Terms of Refer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Chair  with defined focal points from de sectors, NGO and UN agen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Workplan (timeline, defined prior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Expected products (Reports, InfoFlash, Press release, Panflets, maps, modules, etc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</a:rPr>
              <a:t>Access to resources (Needs identication: Technical Assistance,Training, Funds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F60E-E174-48FF-A3F7-6415A25B4D1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How to tap into collective talents?</a:t>
            </a:r>
            <a:br>
              <a:rPr sz="4200"/>
            </a:b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igment of 10 MAIN FSN activities on the Social and Economic  Plan  (PES –</a:t>
            </a:r>
            <a:r>
              <a:rPr b="0" lang="pt-PT" sz="2400" spc="-1" strike="noStrike">
                <a:solidFill>
                  <a:srgbClr val="c00000"/>
                </a:solidFill>
                <a:latin typeface="Arial"/>
              </a:rPr>
              <a:t>Jun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lanning meeting with United Nation Organizations (</a:t>
            </a:r>
            <a:r>
              <a:rPr b="0" lang="pt-PT" sz="2400" spc="-1" strike="noStrike">
                <a:solidFill>
                  <a:srgbClr val="c00000"/>
                </a:solidFill>
                <a:latin typeface="Arial"/>
              </a:rPr>
              <a:t>Jul/Ag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nual SteeringCommittee Meeting  (Govt head of Sectors, Provincial SETSAN, UN, Donors, Ngos) – </a:t>
            </a:r>
            <a:r>
              <a:rPr b="0" lang="pt-PT" sz="2400" spc="-1" strike="noStrike">
                <a:solidFill>
                  <a:srgbClr val="c00000"/>
                </a:solidFill>
                <a:latin typeface="Arial"/>
              </a:rPr>
              <a:t>Nov - at provincia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ultative Council of Nat Directors, Heads Ngos, UN Reps, Heads  Donors)- </a:t>
            </a:r>
            <a:r>
              <a:rPr b="0" lang="pt-PT" sz="2400" spc="-1" strike="noStrike">
                <a:solidFill>
                  <a:srgbClr val="c00000"/>
                </a:solidFill>
                <a:latin typeface="Arial"/>
              </a:rPr>
              <a:t>Dec- chaired by the Minister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4828-7AC0-42B1-8D61-0863CF80FF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How information is fed into policy decision making?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abinet of Ministers  (twice a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N- Forum (at least three times ye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atural Disaster Committee (Contigency pl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ess release (as needed)– to advocate FS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conomic and Social Plan – (on 3 M&amp;A Reports submited to MP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ual Operative Plan – (quarterly reports submited to MIN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uring the design of strategic documents (Govt, NGOs, UNs, Donor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Posição do Número do Diapositivo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FF3C-AE8D-47EF-ABE3-140F0904FAA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ill Sans MT"/>
              </a:rPr>
              <a:t>Achievements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stitu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 Budget line  since 2005 within the Nat. Directorate for Agraria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gal framework  for the creation of SETSAN (Decree 24/2010, approved by the Council of Minist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signed independent state budget to SETSAN in 2011  SETSAN  (activities and operational c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ute of SETSAN is in progress (to be approved by an inter-ministerial Govt. auth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SN Baseline 2006- with interview to 6000 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od Security and Nutrition Plan of Action and Strategy (ESAN II-2008-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mpling prepared by National Statistics Institute with statistical validity at Provin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AC reports disseminated (SADC/RVAC, at national and provincial lev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Gill Sans MT"/>
              </a:rPr>
              <a:t>Independent  impact evaluation  of the process and products  (2009</a:t>
            </a:r>
            <a:r>
              <a:rPr b="0" lang="pt-PT" sz="2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Logo Setsan"/>
          <p:cNvPicPr/>
          <p:nvPr/>
        </p:nvPicPr>
        <p:blipFill>
          <a:blip r:embed="rId1"/>
          <a:stretch/>
        </p:blipFill>
        <p:spPr>
          <a:xfrm>
            <a:off x="152280" y="6095880"/>
            <a:ext cx="693720" cy="762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8354880" y="6019920"/>
            <a:ext cx="789120" cy="83808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7"/>
          <p:cNvSpPr/>
          <p:nvPr/>
        </p:nvSpPr>
        <p:spPr>
          <a:xfrm>
            <a:off x="617220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0894-7BF7-4E5C-AC42-38E0571557F4}" type="slidenum">
              <a:rPr b="1" lang="en-US" sz="16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5:05:04Z</dcterms:created>
  <dc:creator>Francisca</dc:creator>
  <dc:description/>
  <dc:language>en-US</dc:language>
  <cp:lastModifiedBy>Valued Acer Customer</cp:lastModifiedBy>
  <dcterms:modified xsi:type="dcterms:W3CDTF">2011-09-09T05:40:45Z</dcterms:modified>
  <cp:revision>133</cp:revision>
  <dc:subject/>
  <dc:title>Slide 1</dc:title>
</cp:coreProperties>
</file>